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gif" ContentType="image/gif"/>
  <Override PartName="/ppt/media/image20.jpeg" ContentType="image/jpeg"/>
  <Override PartName="/ppt/media/type.wav" ContentType="audio/x-wav"/>
  <Override PartName="/ppt/media/image17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071-68E5-4F3C-AC4E-9CEC86EE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70F-FAC1-4CF6-99F4-2A53B52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EDF-7834-463C-B1FC-19FC2C93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4FC-662A-4FB7-B5CF-F214416C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815-E8AB-4138-9257-1B0B01F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F80-D47A-4AAF-B9BF-B58D1CB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783-B347-4FCF-AF52-649C3432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39F-D56B-4F9A-BC35-099837CD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AD7-9B91-4199-901B-52D25FB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3B5-348F-45D2-A87B-857FAE2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010-87E3-4F6A-A46B-A2EDA9D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FF0-624A-430A-9B09-1754895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2CF-FC39-4E62-B59A-BEF07F3CA6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8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1143000"/>
            <a:ext cx="426420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轴对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 rot="10800000">
            <a:off x="2437200" y="3581280"/>
            <a:ext cx="4256280" cy="13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轴对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546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图形是轴对称图形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指出它的对称轴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6938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39880" cy="16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0" r="0" b="26998"/>
          <a:stretch/>
        </p:blipFill>
        <p:spPr>
          <a:xfrm>
            <a:off x="3348000" y="1484280"/>
            <a:ext cx="2251080" cy="1674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826920" y="1268280"/>
            <a:ext cx="1224000" cy="20894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1197000"/>
            <a:ext cx="0" cy="21607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219640" y="400536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84720" y="357336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1628640"/>
            <a:ext cx="2158920" cy="1656000"/>
          </a:xfrm>
          <a:prstGeom prst="parallelogram">
            <a:avLst>
              <a:gd name="adj" fmla="val 325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215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736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1000" y="551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656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2360" y="54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7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990720"/>
            <a:ext cx="7391520" cy="38066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下列图形是轴对称图形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如果是的话，有几条对称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76360" y="1773360"/>
            <a:ext cx="6192720" cy="2952720"/>
          </a:xfrm>
          <a:custGeom>
            <a:avLst/>
            <a:gdLst>
              <a:gd name="textAreaLeft" fmla="*/ 1152360 w 6192720"/>
              <a:gd name="textAreaRight" fmla="*/ 5040360 w 6192720"/>
              <a:gd name="textAreaTop" fmla="*/ 549360 h 2952720"/>
              <a:gd name="textAreaBottom" fmla="*/ 240336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14" y="21600"/>
                </a:lnTo>
                <a:lnTo>
                  <a:pt x="4086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763560"/>
            <a:ext cx="0" cy="48974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动手画一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1700280"/>
            <a:ext cx="6048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907920"/>
            <a:ext cx="0" cy="482616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284640"/>
            <a:ext cx="7632720" cy="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00360" y="148752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836640"/>
            <a:ext cx="0" cy="4968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3357720"/>
            <a:ext cx="5184720" cy="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125360"/>
            <a:ext cx="4537080" cy="45356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68360" y="1125000"/>
            <a:ext cx="4535640" cy="45356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11280" y="1052640"/>
            <a:ext cx="4321440" cy="432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76280"/>
            <a:ext cx="0" cy="554508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090680" y="518400"/>
            <a:ext cx="962640" cy="54608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23760" y="643320"/>
            <a:ext cx="1896480" cy="521100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85640" y="847800"/>
            <a:ext cx="2772720" cy="48020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89640" y="1053360"/>
            <a:ext cx="3564720" cy="424800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12000" y="1431000"/>
            <a:ext cx="4247640" cy="356436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763280" y="3213000"/>
            <a:ext cx="5545080" cy="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85904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734120" y="2731680"/>
            <a:ext cx="5460840" cy="96264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805400" y="2731680"/>
            <a:ext cx="5460840" cy="96264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93032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9240" y="1461240"/>
            <a:ext cx="4189680" cy="353232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18360" y="1053360"/>
            <a:ext cx="3564720" cy="4248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14360" y="776160"/>
            <a:ext cx="2772720" cy="48024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623760" y="571680"/>
            <a:ext cx="1896480" cy="5211360"/>
          </a:xfrm>
          <a:prstGeom prst="line">
            <a:avLst/>
          </a:prstGeom>
          <a:ln w="381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090680" y="446760"/>
            <a:ext cx="962640" cy="54612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476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何中常见的轴对称图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3280" y="1268280"/>
            <a:ext cx="8640720" cy="2879640"/>
            <a:chOff x="503280" y="1268280"/>
            <a:chExt cx="8640720" cy="2879640"/>
          </a:xfrm>
        </p:grpSpPr>
        <p:grpSp>
          <p:nvGrpSpPr>
            <p:cNvPr id="120" name=""/>
            <p:cNvGrpSpPr/>
            <p:nvPr/>
          </p:nvGrpSpPr>
          <p:grpSpPr>
            <a:xfrm>
              <a:off x="503280" y="1268280"/>
              <a:ext cx="8640720" cy="287280"/>
              <a:chOff x="503280" y="1268280"/>
              <a:chExt cx="8640720" cy="287280"/>
            </a:xfrm>
          </p:grpSpPr>
          <p:sp>
            <p:nvSpPr>
              <p:cNvPr id="121" name=""/>
              <p:cNvSpPr/>
              <p:nvPr/>
            </p:nvSpPr>
            <p:spPr>
              <a:xfrm>
                <a:off x="50328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5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7928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6692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5564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4292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305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1928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065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9564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8436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7200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6072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4800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3708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243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1164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0072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8800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7672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643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164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4036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2800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1672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0400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991280" y="126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036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6764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56720" y="126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03280" y="1555920"/>
              <a:ext cx="8640720" cy="287280"/>
              <a:chOff x="503280" y="1555920"/>
              <a:chExt cx="8640720" cy="287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0328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05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7928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6692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5564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4292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305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1928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065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9564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8436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200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6072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4800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3708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243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1164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0072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8800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7672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643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5164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036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2800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1672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0400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991280" y="1555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8036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56764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856720" y="1555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03280" y="1844640"/>
              <a:ext cx="8640720" cy="287280"/>
              <a:chOff x="503280" y="1844640"/>
              <a:chExt cx="8640720" cy="287280"/>
            </a:xfrm>
          </p:grpSpPr>
          <p:sp>
            <p:nvSpPr>
              <p:cNvPr id="183" name=""/>
              <p:cNvSpPr/>
              <p:nvPr/>
            </p:nvSpPr>
            <p:spPr>
              <a:xfrm>
                <a:off x="50328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05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7928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6692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5564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4292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305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1928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065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9564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36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200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6072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24800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3708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243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1164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0072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8800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7672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643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5164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4036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2800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1672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0400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91280" y="184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28036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6764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856720" y="184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03280" y="2131920"/>
              <a:ext cx="8640720" cy="287280"/>
              <a:chOff x="503280" y="2131920"/>
              <a:chExt cx="8640720" cy="287280"/>
            </a:xfrm>
          </p:grpSpPr>
          <p:sp>
            <p:nvSpPr>
              <p:cNvPr id="214" name=""/>
              <p:cNvSpPr/>
              <p:nvPr/>
            </p:nvSpPr>
            <p:spPr>
              <a:xfrm>
                <a:off x="50328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05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7928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6692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5564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4292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05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1928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65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9564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8436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200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6072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4800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3708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243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1164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0072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8800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7672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2643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5164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4036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2800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1672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0400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91280" y="213192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8036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764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856720" y="213192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03280" y="2421000"/>
              <a:ext cx="8640720" cy="287280"/>
              <a:chOff x="503280" y="2421000"/>
              <a:chExt cx="8640720" cy="287280"/>
            </a:xfrm>
          </p:grpSpPr>
          <p:sp>
            <p:nvSpPr>
              <p:cNvPr id="245" name=""/>
              <p:cNvSpPr/>
              <p:nvPr/>
            </p:nvSpPr>
            <p:spPr>
              <a:xfrm>
                <a:off x="50328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05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7928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6692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5564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4292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305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1928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065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9564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8436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200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6072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24800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3708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243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1164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0072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8800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7672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643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5164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036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2800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41672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0400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991280" y="242100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28036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6764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56720" y="242100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3280" y="2708280"/>
              <a:ext cx="8640720" cy="287280"/>
              <a:chOff x="503280" y="2708280"/>
              <a:chExt cx="8640720" cy="287280"/>
            </a:xfrm>
          </p:grpSpPr>
          <p:sp>
            <p:nvSpPr>
              <p:cNvPr id="276" name=""/>
              <p:cNvSpPr/>
              <p:nvPr/>
            </p:nvSpPr>
            <p:spPr>
              <a:xfrm>
                <a:off x="50328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05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7928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6692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5564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4292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305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51928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65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9564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8436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7200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6072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4800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3708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243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1164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0072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8800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7672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643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5164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4036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2800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41672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0400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91280" y="270828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8036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56764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856720" y="270828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3280" y="2997360"/>
              <a:ext cx="8640720" cy="287280"/>
              <a:chOff x="503280" y="2997360"/>
              <a:chExt cx="8640720" cy="287280"/>
            </a:xfrm>
          </p:grpSpPr>
          <p:sp>
            <p:nvSpPr>
              <p:cNvPr id="307" name=""/>
              <p:cNvSpPr/>
              <p:nvPr/>
            </p:nvSpPr>
            <p:spPr>
              <a:xfrm>
                <a:off x="50328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05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7928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6692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5564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4292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305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1928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065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9564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8436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200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6072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4800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708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243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1164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0072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8800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7672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643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5164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4036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2800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1672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70400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1280" y="2997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8036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56764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856720" y="2997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503280" y="3284640"/>
              <a:ext cx="8640720" cy="287280"/>
              <a:chOff x="503280" y="3284640"/>
              <a:chExt cx="8640720" cy="28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50328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7928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6692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564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4292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305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1928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065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9564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8436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7200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6072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4800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3708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243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1164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0072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8800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7672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643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5164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4036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2800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1672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0400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91280" y="3284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036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56764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856720" y="3284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03280" y="3573360"/>
              <a:ext cx="8640720" cy="287280"/>
              <a:chOff x="503280" y="3573360"/>
              <a:chExt cx="8640720" cy="287280"/>
            </a:xfrm>
          </p:grpSpPr>
          <p:sp>
            <p:nvSpPr>
              <p:cNvPr id="369" name=""/>
              <p:cNvSpPr/>
              <p:nvPr/>
            </p:nvSpPr>
            <p:spPr>
              <a:xfrm>
                <a:off x="50328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05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7928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6692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65564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4292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305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1928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8065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9564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8436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7200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6072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24800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3708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43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164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0072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8800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7672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643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164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4036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2800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1672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0400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991280" y="357336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28036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6764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856720" y="357336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03280" y="3860640"/>
              <a:ext cx="8640720" cy="287280"/>
              <a:chOff x="503280" y="3860640"/>
              <a:chExt cx="8640720" cy="287280"/>
            </a:xfrm>
          </p:grpSpPr>
          <p:sp>
            <p:nvSpPr>
              <p:cNvPr id="400" name=""/>
              <p:cNvSpPr/>
              <p:nvPr/>
            </p:nvSpPr>
            <p:spPr>
              <a:xfrm>
                <a:off x="50328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905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7928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6692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5564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4292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305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1928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8065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9564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8436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7200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6072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4800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3708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243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1164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0072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8800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672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43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5164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4036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2800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1672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0400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91280" y="3860640"/>
                <a:ext cx="28764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8036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56764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856720" y="3860640"/>
                <a:ext cx="28728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>
            <a:hlinkClick r:id="rId1" action="ppaction://hlinksldjump"/>
          </p:cNvPr>
          <p:cNvSpPr/>
          <p:nvPr/>
        </p:nvSpPr>
        <p:spPr>
          <a:xfrm>
            <a:off x="1116000" y="17002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843280" y="1700280"/>
            <a:ext cx="1728720" cy="863640"/>
          </a:xfrm>
          <a:custGeom>
            <a:avLst/>
            <a:gdLst>
              <a:gd name="textAreaLeft" fmla="*/ 307440 w 1728720"/>
              <a:gd name="textAreaRight" fmla="*/ 1421280 w 1728720"/>
              <a:gd name="textAreaTop" fmla="*/ 153720 h 863640"/>
              <a:gd name="textAreaBottom" fmla="*/ 709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31" y="21600"/>
                </a:lnTo>
                <a:lnTo>
                  <a:pt x="3769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3" action="ppaction://hlinksldjump"/>
          </p:cNvPr>
          <p:cNvSpPr/>
          <p:nvPr/>
        </p:nvSpPr>
        <p:spPr>
          <a:xfrm>
            <a:off x="5076720" y="1700280"/>
            <a:ext cx="1728720" cy="863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4" action="ppaction://hlinksldjump"/>
          </p:cNvPr>
          <p:cNvSpPr/>
          <p:nvPr/>
        </p:nvSpPr>
        <p:spPr>
          <a:xfrm>
            <a:off x="1116000" y="3141720"/>
            <a:ext cx="86508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5" action="ppaction://hlinksldjump"/>
          </p:cNvPr>
          <p:cNvSpPr/>
          <p:nvPr/>
        </p:nvSpPr>
        <p:spPr>
          <a:xfrm>
            <a:off x="2843280" y="3141720"/>
            <a:ext cx="1735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4508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线段、角、正方形、长方形、等腰三角形、等腰梯形和圆都是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08720" y="213372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795640" y="2781360"/>
            <a:ext cx="2514600" cy="1190160"/>
            <a:chOff x="5795640" y="2781360"/>
            <a:chExt cx="2514600" cy="1190160"/>
          </a:xfrm>
        </p:grpSpPr>
        <p:sp>
          <p:nvSpPr>
            <p:cNvPr id="438" name=""/>
            <p:cNvSpPr/>
            <p:nvPr/>
          </p:nvSpPr>
          <p:spPr>
            <a:xfrm flipH="1">
              <a:off x="5795640" y="2781360"/>
              <a:ext cx="2057400" cy="118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795640" y="3971160"/>
              <a:ext cx="25146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971640" y="382572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234936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206064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00720" y="364500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5661000"/>
            <a:ext cx="849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轴对称图形有不止一条对称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213372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213372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3573360"/>
            <a:ext cx="1379520" cy="693720"/>
          </a:xfrm>
          <a:custGeom>
            <a:avLst/>
            <a:gdLst/>
            <a:ahLst/>
            <a:rect l="l" t="t" r="r" b="b"/>
            <a:pathLst>
              <a:path w="869" h="437">
                <a:moveTo>
                  <a:pt x="0" y="113"/>
                </a:moveTo>
                <a:cubicBezTo>
                  <a:pt x="49" y="275"/>
                  <a:pt x="99" y="437"/>
                  <a:pt x="227" y="430"/>
                </a:cubicBezTo>
                <a:cubicBezTo>
                  <a:pt x="355" y="423"/>
                  <a:pt x="673" y="136"/>
                  <a:pt x="771" y="68"/>
                </a:cubicBezTo>
                <a:cubicBezTo>
                  <a:pt x="869" y="0"/>
                  <a:pt x="843" y="11"/>
                  <a:pt x="817" y="22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76360" y="765000"/>
          <a:ext cx="7272360" cy="5688360"/>
        </p:xfrm>
        <a:graphic>
          <a:graphicData uri="http://schemas.openxmlformats.org/drawingml/2006/table">
            <a:tbl>
              <a:tblPr/>
              <a:tblGrid>
                <a:gridCol w="1366920"/>
                <a:gridCol w="1944720"/>
                <a:gridCol w="2160360"/>
                <a:gridCol w="1800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是否轴对称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的数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四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腰三角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"/>
          <p:cNvSpPr/>
          <p:nvPr/>
        </p:nvSpPr>
        <p:spPr>
          <a:xfrm>
            <a:off x="3276720" y="1916280"/>
            <a:ext cx="100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360" y="2852640"/>
            <a:ext cx="5749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19640" y="3860640"/>
            <a:ext cx="865080" cy="432000"/>
          </a:xfrm>
          <a:prstGeom prst="parallelogram">
            <a:avLst>
              <a:gd name="adj" fmla="val 500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19640" y="4724280"/>
            <a:ext cx="718920" cy="7207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64000" y="5805360"/>
            <a:ext cx="504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08720" y="1844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08720" y="2781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47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3564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35640" y="378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451640" y="1844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16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80360" y="47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6000" y="57340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80360" y="3789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4000" y="1916280"/>
            <a:ext cx="8567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有些轴对称图形的对称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只有一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但有的轴对称图形的对称轴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止一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有的轴对称图形的对称轴甚至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无数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393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称轴通常画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虚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直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不能画成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4360" y="62064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对称轴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620640"/>
            <a:ext cx="81356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方正舒体"/>
                <a:ea typeface="方正舒体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方正舒体"/>
                <a:ea typeface="方正舒体"/>
              </a:rPr>
              <a:t>想一想</a:t>
            </a:r>
            <a:r>
              <a:rPr b="1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0-9</a:t>
            </a:r>
            <a:r>
              <a:rPr b="1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十个数字中，哪些是轴对称图形？（抢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0  1  2  3 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5  6  7  8 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19280" y="3789360"/>
            <a:ext cx="6094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6000" y="3789360"/>
            <a:ext cx="6094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5445000"/>
            <a:ext cx="6094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欣赏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2324160" cy="174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2880000" cy="180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2808360" cy="175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2376360" cy="188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137160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87640" y="126360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126360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6699"/>
                </a:solidFill>
                <a:latin typeface="Verdana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12193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Verdan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3400" y="3276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59280" y="328464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00"/>
                </a:solidFill>
                <a:latin typeface="Verdana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32360" y="3357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Verdana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3357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ccff"/>
                </a:solidFill>
                <a:latin typeface="Verdana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3207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: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下面的字母哪些是轴对称图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160020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88000" y="206064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205740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4076640"/>
            <a:ext cx="160020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96080" y="32767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1828800" y="2209680"/>
            <a:ext cx="609480" cy="1676520"/>
            <a:chOff x="1828800" y="2209680"/>
            <a:chExt cx="609480" cy="1676520"/>
          </a:xfrm>
        </p:grpSpPr>
        <p:sp>
          <p:nvSpPr>
            <p:cNvPr id="487" name=""/>
            <p:cNvSpPr/>
            <p:nvPr/>
          </p:nvSpPr>
          <p:spPr>
            <a:xfrm>
              <a:off x="2438280" y="2209680"/>
              <a:ext cx="0" cy="16765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28800" y="2209680"/>
              <a:ext cx="6094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28800" y="3048120"/>
              <a:ext cx="6094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28800" y="3886200"/>
              <a:ext cx="6094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924680" y="1773360"/>
            <a:ext cx="762120" cy="2286000"/>
            <a:chOff x="7924680" y="1773360"/>
            <a:chExt cx="762120" cy="2286000"/>
          </a:xfrm>
        </p:grpSpPr>
        <p:sp>
          <p:nvSpPr>
            <p:cNvPr id="492" name=""/>
            <p:cNvSpPr/>
            <p:nvPr/>
          </p:nvSpPr>
          <p:spPr>
            <a:xfrm>
              <a:off x="7924680" y="1773360"/>
              <a:ext cx="0" cy="2286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24680" y="2382840"/>
              <a:ext cx="6858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840040"/>
              <a:ext cx="6098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24680" y="3449520"/>
              <a:ext cx="7621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752480" y="4191120"/>
            <a:ext cx="1143000" cy="2514600"/>
            <a:chOff x="1752480" y="4191120"/>
            <a:chExt cx="1143000" cy="2514600"/>
          </a:xfrm>
        </p:grpSpPr>
        <p:sp>
          <p:nvSpPr>
            <p:cNvPr id="497" name=""/>
            <p:cNvSpPr/>
            <p:nvPr/>
          </p:nvSpPr>
          <p:spPr>
            <a:xfrm>
              <a:off x="2285640" y="4191120"/>
              <a:ext cx="0" cy="9144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2840" y="5334120"/>
              <a:ext cx="0" cy="1371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2480" y="5334120"/>
              <a:ext cx="0" cy="1295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2480" y="4800600"/>
              <a:ext cx="1143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2480" y="5334120"/>
              <a:ext cx="99036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52480" y="6019920"/>
              <a:ext cx="99036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52480" y="6629400"/>
              <a:ext cx="99036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800600" y="4572000"/>
            <a:ext cx="1066680" cy="2057400"/>
            <a:chOff x="4800600" y="4572000"/>
            <a:chExt cx="1066680" cy="2057400"/>
          </a:xfrm>
        </p:grpSpPr>
        <p:grpSp>
          <p:nvGrpSpPr>
            <p:cNvPr id="505" name=""/>
            <p:cNvGrpSpPr/>
            <p:nvPr/>
          </p:nvGrpSpPr>
          <p:grpSpPr>
            <a:xfrm>
              <a:off x="4952880" y="5715000"/>
              <a:ext cx="914400" cy="914400"/>
              <a:chOff x="4952880" y="5715000"/>
              <a:chExt cx="914400" cy="914400"/>
            </a:xfrm>
          </p:grpSpPr>
          <p:sp>
            <p:nvSpPr>
              <p:cNvPr id="506" name=""/>
              <p:cNvSpPr/>
              <p:nvPr/>
            </p:nvSpPr>
            <p:spPr>
              <a:xfrm>
                <a:off x="4952880" y="5715000"/>
                <a:ext cx="0" cy="914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952880" y="5715000"/>
                <a:ext cx="914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7280" y="5715000"/>
                <a:ext cx="0" cy="914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952880" y="6553080"/>
                <a:ext cx="914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800600" y="4572000"/>
              <a:ext cx="533160" cy="914400"/>
              <a:chOff x="4800600" y="4572000"/>
              <a:chExt cx="533160" cy="91440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3760" y="4572000"/>
                <a:ext cx="0" cy="914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00600" y="4572000"/>
                <a:ext cx="5331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00600" y="5410080"/>
                <a:ext cx="5331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7772400" y="4191120"/>
            <a:ext cx="990720" cy="2666880"/>
            <a:chOff x="7772400" y="4191120"/>
            <a:chExt cx="990720" cy="2666880"/>
          </a:xfrm>
        </p:grpSpPr>
        <p:grpSp>
          <p:nvGrpSpPr>
            <p:cNvPr id="515" name=""/>
            <p:cNvGrpSpPr/>
            <p:nvPr/>
          </p:nvGrpSpPr>
          <p:grpSpPr>
            <a:xfrm>
              <a:off x="7772400" y="4191120"/>
              <a:ext cx="990720" cy="2666880"/>
              <a:chOff x="7772400" y="4191120"/>
              <a:chExt cx="990720" cy="2666880"/>
            </a:xfrm>
          </p:grpSpPr>
          <p:sp>
            <p:nvSpPr>
              <p:cNvPr id="516" name=""/>
              <p:cNvSpPr/>
              <p:nvPr/>
            </p:nvSpPr>
            <p:spPr>
              <a:xfrm>
                <a:off x="7848720" y="5105520"/>
                <a:ext cx="914400" cy="1523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72400" y="4191120"/>
                <a:ext cx="0" cy="2666880"/>
              </a:xfrm>
              <a:prstGeom prst="line">
                <a:avLst/>
              </a:prstGeom>
              <a:ln w="7632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72400" y="5105520"/>
                <a:ext cx="914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7772400" y="6323040"/>
              <a:ext cx="609480" cy="1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85800" y="1752480"/>
            <a:ext cx="7086600" cy="5105520"/>
            <a:chOff x="685800" y="1752480"/>
            <a:chExt cx="7086600" cy="5105520"/>
          </a:xfrm>
        </p:grpSpPr>
        <p:grpSp>
          <p:nvGrpSpPr>
            <p:cNvPr id="521" name=""/>
            <p:cNvGrpSpPr/>
            <p:nvPr/>
          </p:nvGrpSpPr>
          <p:grpSpPr>
            <a:xfrm>
              <a:off x="1295280" y="2209680"/>
              <a:ext cx="533520" cy="1752840"/>
              <a:chOff x="1295280" y="2209680"/>
              <a:chExt cx="533520" cy="1752840"/>
            </a:xfrm>
          </p:grpSpPr>
          <p:sp>
            <p:nvSpPr>
              <p:cNvPr id="522" name=""/>
              <p:cNvSpPr/>
              <p:nvPr/>
            </p:nvSpPr>
            <p:spPr>
              <a:xfrm>
                <a:off x="1295280" y="2209680"/>
                <a:ext cx="0" cy="1752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95280" y="220968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95280" y="388620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95280" y="3048120"/>
                <a:ext cx="533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6629400" y="1752480"/>
              <a:ext cx="762120" cy="2286000"/>
              <a:chOff x="6629400" y="1752480"/>
              <a:chExt cx="762120" cy="2286000"/>
            </a:xfrm>
          </p:grpSpPr>
          <p:sp>
            <p:nvSpPr>
              <p:cNvPr id="527" name=""/>
              <p:cNvSpPr/>
              <p:nvPr/>
            </p:nvSpPr>
            <p:spPr>
              <a:xfrm>
                <a:off x="7391520" y="175248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705720" y="236196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781680" y="2895480"/>
                <a:ext cx="60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629400" y="3504960"/>
                <a:ext cx="762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85800" y="4191120"/>
              <a:ext cx="1066680" cy="2514600"/>
              <a:chOff x="685800" y="4191120"/>
              <a:chExt cx="1066680" cy="2514600"/>
            </a:xfrm>
          </p:grpSpPr>
          <p:sp>
            <p:nvSpPr>
              <p:cNvPr id="532" name=""/>
              <p:cNvSpPr/>
              <p:nvPr/>
            </p:nvSpPr>
            <p:spPr>
              <a:xfrm>
                <a:off x="685800" y="480060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240" y="4191120"/>
                <a:ext cx="0" cy="99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8080" y="5334120"/>
                <a:ext cx="0" cy="1371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8080" y="533412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38080" y="662940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38080" y="6019920"/>
                <a:ext cx="914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52480" y="5334120"/>
                <a:ext cx="0" cy="1295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733920" y="4572000"/>
              <a:ext cx="1066320" cy="2057400"/>
              <a:chOff x="3733920" y="4572000"/>
              <a:chExt cx="1066320" cy="205740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4267080" y="4572000"/>
                <a:ext cx="533160" cy="914400"/>
                <a:chOff x="4267080" y="4572000"/>
                <a:chExt cx="533160" cy="9144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4267080" y="457200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67080" y="4572000"/>
                  <a:ext cx="5331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67080" y="5394240"/>
                  <a:ext cx="533160" cy="15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733920" y="5715000"/>
                <a:ext cx="914040" cy="914400"/>
                <a:chOff x="3733920" y="5715000"/>
                <a:chExt cx="914040" cy="914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733920" y="571500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733920" y="5715000"/>
                  <a:ext cx="914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47960" y="5715000"/>
                  <a:ext cx="0" cy="9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33920" y="6553080"/>
                  <a:ext cx="914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6781680" y="4191120"/>
              <a:ext cx="990720" cy="2666880"/>
              <a:chOff x="6781680" y="4191120"/>
              <a:chExt cx="990720" cy="2666880"/>
            </a:xfrm>
          </p:grpSpPr>
          <p:sp>
            <p:nvSpPr>
              <p:cNvPr id="550" name=""/>
              <p:cNvSpPr/>
              <p:nvPr/>
            </p:nvSpPr>
            <p:spPr>
              <a:xfrm>
                <a:off x="6858000" y="5105520"/>
                <a:ext cx="91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72400" y="4191120"/>
                <a:ext cx="0" cy="2666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781680" y="5105520"/>
                <a:ext cx="914400" cy="1523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62920" y="6324480"/>
                <a:ext cx="60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429000" y="2209680"/>
              <a:ext cx="1981080" cy="685800"/>
              <a:chOff x="3429000" y="2209680"/>
              <a:chExt cx="1981080" cy="685800"/>
            </a:xfrm>
          </p:grpSpPr>
          <p:sp>
            <p:nvSpPr>
              <p:cNvPr id="555" name=""/>
              <p:cNvSpPr/>
              <p:nvPr/>
            </p:nvSpPr>
            <p:spPr>
              <a:xfrm>
                <a:off x="4419720" y="2209680"/>
                <a:ext cx="0" cy="68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000" y="2209680"/>
                <a:ext cx="99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19720" y="2209680"/>
                <a:ext cx="99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3429000" y="2916360"/>
            <a:ext cx="1981080" cy="761760"/>
            <a:chOff x="3429000" y="2916360"/>
            <a:chExt cx="1981080" cy="761760"/>
          </a:xfrm>
        </p:grpSpPr>
        <p:sp>
          <p:nvSpPr>
            <p:cNvPr id="559" name=""/>
            <p:cNvSpPr/>
            <p:nvPr/>
          </p:nvSpPr>
          <p:spPr>
            <a:xfrm>
              <a:off x="3429000" y="3678120"/>
              <a:ext cx="9907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9720" y="3678120"/>
              <a:ext cx="99036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19720" y="2916360"/>
              <a:ext cx="0" cy="7617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24000" y="907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艺术字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些汉字是轴对称的，你能猜一猜下列是哪些字的一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09480" y="304920"/>
            <a:ext cx="2514240" cy="913680"/>
            <a:chOff x="609480" y="304920"/>
            <a:chExt cx="2514240" cy="913680"/>
          </a:xfrm>
        </p:grpSpPr>
        <p:grpSp>
          <p:nvGrpSpPr>
            <p:cNvPr id="564" name=""/>
            <p:cNvGrpSpPr/>
            <p:nvPr/>
          </p:nvGrpSpPr>
          <p:grpSpPr>
            <a:xfrm>
              <a:off x="609480" y="304920"/>
              <a:ext cx="2514240" cy="518400"/>
              <a:chOff x="609480" y="304920"/>
              <a:chExt cx="2514240" cy="518400"/>
            </a:xfrm>
          </p:grpSpPr>
          <p:sp>
            <p:nvSpPr>
              <p:cNvPr id="565" name=""/>
              <p:cNvSpPr/>
              <p:nvPr/>
            </p:nvSpPr>
            <p:spPr>
              <a:xfrm>
                <a:off x="609480" y="335520"/>
                <a:ext cx="251424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猜字游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11800" y="3049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7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09480" y="480600"/>
              <a:ext cx="567360" cy="73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6868800" y="3594600"/>
            <a:ext cx="1983600" cy="2041920"/>
            <a:chOff x="6868800" y="3594600"/>
            <a:chExt cx="1983600" cy="2041920"/>
          </a:xfrm>
        </p:grpSpPr>
        <p:sp>
          <p:nvSpPr>
            <p:cNvPr id="569" name=""/>
            <p:cNvSpPr/>
            <p:nvPr/>
          </p:nvSpPr>
          <p:spPr>
            <a:xfrm flipH="1" rot="19217400">
              <a:off x="7257240" y="3789000"/>
              <a:ext cx="1206360" cy="16524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897600" y="400212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897240" y="486720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877080" y="550368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nt"/>
          <p:cNvSpPr/>
          <p:nvPr/>
        </p:nvSpPr>
        <p:spPr>
          <a:xfrm>
            <a:off x="755640" y="3716280"/>
            <a:ext cx="1809720" cy="18097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830840" y="3594600"/>
            <a:ext cx="1984320" cy="2042280"/>
            <a:chOff x="4830840" y="3594600"/>
            <a:chExt cx="1984320" cy="2042280"/>
          </a:xfrm>
        </p:grpSpPr>
        <p:sp>
          <p:nvSpPr>
            <p:cNvPr id="575" name=""/>
            <p:cNvSpPr/>
            <p:nvPr/>
          </p:nvSpPr>
          <p:spPr>
            <a:xfrm rot="2382600">
              <a:off x="5219640" y="3789360"/>
              <a:ext cx="1206720" cy="16524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54720" y="398124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26360" y="486720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83240" y="550368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804000" y="3357720"/>
            <a:ext cx="0" cy="259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868800" y="3594600"/>
            <a:ext cx="1983600" cy="2041920"/>
            <a:chOff x="6868800" y="3594600"/>
            <a:chExt cx="1983600" cy="2041920"/>
          </a:xfrm>
        </p:grpSpPr>
        <p:sp>
          <p:nvSpPr>
            <p:cNvPr id="581" name=""/>
            <p:cNvSpPr/>
            <p:nvPr/>
          </p:nvSpPr>
          <p:spPr>
            <a:xfrm flipH="1" rot="19217400">
              <a:off x="7257240" y="3789000"/>
              <a:ext cx="1206360" cy="165240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897600" y="4002120"/>
              <a:ext cx="432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897240" y="4867200"/>
              <a:ext cx="360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877080" y="5503680"/>
              <a:ext cx="122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093080" y="357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27640" y="364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16360" y="486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544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747280" y="47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956720" y="5516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nt"/>
          <p:cNvSpPr/>
          <p:nvPr/>
        </p:nvSpPr>
        <p:spPr>
          <a:xfrm flipH="1">
            <a:off x="2699640" y="3716280"/>
            <a:ext cx="1809720" cy="18097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nt"/>
          <p:cNvSpPr/>
          <p:nvPr/>
        </p:nvSpPr>
        <p:spPr>
          <a:xfrm flipH="1">
            <a:off x="2699640" y="3716280"/>
            <a:ext cx="1809720" cy="18097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00360" y="364500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27640" y="765000"/>
            <a:ext cx="4500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观察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下面的每对图形有什么共同特点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00000" y="549360"/>
            <a:ext cx="2519280" cy="2808360"/>
            <a:chOff x="900000" y="549360"/>
            <a:chExt cx="2519280" cy="28083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900000" y="940680"/>
              <a:ext cx="1005480" cy="16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46680" y="549360"/>
              <a:ext cx="0" cy="280836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2413800" y="940680"/>
              <a:ext cx="1005480" cy="1612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两个图形成轴对称的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定义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沿着某一条直线折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它能够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形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么就说这两个图形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者说这两个图形成轴对称。这条直线叫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折叠后重合的点是对应点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19280" y="1916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一个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71640" y="256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03640" y="2492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87640" y="306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关于这条直线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38036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对称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08720" y="42926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对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比较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468360" y="1557360"/>
          <a:ext cx="8362800" cy="4430160"/>
        </p:xfrm>
        <a:graphic>
          <a:graphicData uri="http://schemas.openxmlformats.org/drawingml/2006/table">
            <a:tbl>
              <a:tblPr/>
              <a:tblGrid>
                <a:gridCol w="1474920"/>
                <a:gridCol w="2852640"/>
                <a:gridCol w="40352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轴对称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两个图形成轴对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＿个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＿个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１．沿一条直线折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直线两旁的部分能够＿＿＿＿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２．都有＿＿＿＿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如果把一个轴对称图形沿对称轴分成两个图形，那么这两个图形关于这条直线＿＿＿；如果把两个成轴对称的图形看成一个图形，那么这个图形就是＿＿＿＿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255600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200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5092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互相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92360" y="364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0920" y="501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59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11280" y="4149720"/>
            <a:ext cx="324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成轴对称的两个图形全等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果把一个轴对称图形沿对称轴分成两个图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么这两个图形全等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(        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两个图形对称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 rot="186600">
            <a:off x="1186920" y="404280"/>
            <a:ext cx="10591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67800" y="3760920"/>
            <a:ext cx="3054960" cy="3097080"/>
            <a:chOff x="667800" y="3760920"/>
            <a:chExt cx="3054960" cy="3097080"/>
          </a:xfrm>
        </p:grpSpPr>
        <p:pic>
          <p:nvPicPr>
            <p:cNvPr id="621" name="" descr=""/>
            <p:cNvPicPr/>
            <p:nvPr/>
          </p:nvPicPr>
          <p:blipFill>
            <a:blip r:embed="rId1"/>
            <a:srcRect l="20669" t="35423" r="40954" b="36978"/>
            <a:stretch/>
          </p:blipFill>
          <p:spPr>
            <a:xfrm rot="20317800">
              <a:off x="2268360" y="4768560"/>
              <a:ext cx="1366560" cy="73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2195640" y="3760920"/>
              <a:ext cx="0" cy="30970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2"/>
            <a:srcRect l="20669" t="35423" r="40954" b="36978"/>
            <a:stretch/>
          </p:blipFill>
          <p:spPr>
            <a:xfrm flipH="1" rot="1282800">
              <a:off x="754920" y="4768560"/>
              <a:ext cx="1366920" cy="73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5651640" y="4365720"/>
            <a:ext cx="79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443640" y="4365720"/>
            <a:ext cx="79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43640" y="412128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04000" y="184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08720" y="3068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32360" y="3573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08092E-006 L -0.08663 -2.08092E-006 E">
                                      <p:cBhvr>
                                        <p:cTn id="618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092E-006 L 0.08664 -2.08092E-006 E">
                                      <p:cBhvr>
                                        <p:cTn id="620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09880" y="-304920"/>
            <a:ext cx="0" cy="43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87400" y="-22536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43400" y="-22212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43760" y="6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043000" y="1146240"/>
            <a:ext cx="3419640" cy="9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483000" y="817200"/>
            <a:ext cx="289080" cy="360360"/>
            <a:chOff x="3483000" y="817200"/>
            <a:chExt cx="289080" cy="360360"/>
          </a:xfrm>
        </p:grpSpPr>
        <p:sp>
          <p:nvSpPr>
            <p:cNvPr id="636" name=""/>
            <p:cNvSpPr/>
            <p:nvPr/>
          </p:nvSpPr>
          <p:spPr>
            <a:xfrm flipV="1">
              <a:off x="3483000" y="8172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83000" y="82512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886200" y="-1128600"/>
            <a:ext cx="1317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5484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图：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关于直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对称点，线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BB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C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直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406840" y="1146240"/>
            <a:ext cx="936720" cy="2603520"/>
            <a:chOff x="5406840" y="1146240"/>
            <a:chExt cx="936720" cy="2603520"/>
          </a:xfrm>
        </p:grpSpPr>
        <p:sp>
          <p:nvSpPr>
            <p:cNvPr id="641" name=""/>
            <p:cNvSpPr/>
            <p:nvPr/>
          </p:nvSpPr>
          <p:spPr>
            <a:xfrm>
              <a:off x="5478480" y="1146240"/>
              <a:ext cx="865080" cy="165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406840" y="2740320"/>
              <a:ext cx="936360" cy="100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07200" y="1157400"/>
              <a:ext cx="7092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25440" y="-158760"/>
            <a:ext cx="2519280" cy="4763160"/>
            <a:chOff x="325440" y="-158760"/>
            <a:chExt cx="2519280" cy="4763160"/>
          </a:xfrm>
        </p:grpSpPr>
        <p:sp>
          <p:nvSpPr>
            <p:cNvPr id="645" name=""/>
            <p:cNvSpPr/>
            <p:nvPr/>
          </p:nvSpPr>
          <p:spPr>
            <a:xfrm>
              <a:off x="1333080" y="-158760"/>
              <a:ext cx="91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1187280" y="1138320"/>
              <a:ext cx="936720" cy="2603520"/>
              <a:chOff x="1187280" y="1138320"/>
              <a:chExt cx="936720" cy="2603520"/>
            </a:xfrm>
          </p:grpSpPr>
          <p:sp>
            <p:nvSpPr>
              <p:cNvPr id="647" name=""/>
              <p:cNvSpPr/>
              <p:nvPr/>
            </p:nvSpPr>
            <p:spPr>
              <a:xfrm flipH="1">
                <a:off x="1187280" y="1138320"/>
                <a:ext cx="86508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87640" y="2732400"/>
                <a:ext cx="936360" cy="100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052720" y="1149480"/>
                <a:ext cx="70920" cy="259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325440" y="1930680"/>
              <a:ext cx="858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08360" y="3413160"/>
              <a:ext cx="93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316480" y="3306600"/>
            <a:ext cx="12092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52120" y="1866960"/>
            <a:ext cx="11530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262160" y="2747880"/>
            <a:ext cx="5040360" cy="12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494160" y="2420640"/>
            <a:ext cx="288720" cy="360360"/>
            <a:chOff x="3494160" y="2420640"/>
            <a:chExt cx="288720" cy="360360"/>
          </a:xfrm>
        </p:grpSpPr>
        <p:sp>
          <p:nvSpPr>
            <p:cNvPr id="656" name=""/>
            <p:cNvSpPr/>
            <p:nvPr/>
          </p:nvSpPr>
          <p:spPr>
            <a:xfrm flipV="1">
              <a:off x="3494160" y="2420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94160" y="2428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>
            <a:off x="2125800" y="3738240"/>
            <a:ext cx="3311280" cy="19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462480" y="3419280"/>
            <a:ext cx="288720" cy="360360"/>
            <a:chOff x="3462480" y="3419280"/>
            <a:chExt cx="288720" cy="360360"/>
          </a:xfrm>
        </p:grpSpPr>
        <p:sp>
          <p:nvSpPr>
            <p:cNvPr id="660" name=""/>
            <p:cNvSpPr/>
            <p:nvPr/>
          </p:nvSpPr>
          <p:spPr>
            <a:xfrm flipV="1">
              <a:off x="3462480" y="341928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62480" y="342720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 rot="5400000">
            <a:off x="6271920" y="2414520"/>
            <a:ext cx="33051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63" name=""/>
          <p:cNvSpPr/>
          <p:nvPr/>
        </p:nvSpPr>
        <p:spPr>
          <a:xfrm>
            <a:off x="2094480" y="441972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经过线段中点并且垂直于这条线段的直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叫做这条线段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垂直平分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图形轴对称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如果两个图形关于某条直线对称，那么对称轴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轴对称图形的对称轴，是任何一对对应点所连线段的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8168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59800" y="58672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24480" y="3352680"/>
            <a:ext cx="2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12080" y="3352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47236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910640" y="346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976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225200" y="52941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29400" y="34290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9080" y="35053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62720" y="53704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38080" y="365760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垂直平分————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79916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轴对称图形和两个图形关于某直线对称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26920" y="458136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轴对称图形与两个图形关于某直线对称的区别和联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轴对称的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292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识别简单的轴对称图形及其对称轴（直线），能找出两个图形关于某直线对称的对称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692360" y="333360"/>
            <a:ext cx="56894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本节课你有什么收获</a:t>
            </a: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357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4753080" cy="28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49440" y="0"/>
            <a:ext cx="4103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2514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34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43800" y="38088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《轴对称图形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7524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对称现象在我们生活中无处不在，象我们的双手，两只眼睛，两个耳朵，你还能举出一些例子吗？你来说说看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轴对称图形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定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沿一条直线折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两旁的部分能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图形就叫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__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条直线就是它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时我们也说这个图形关于这条直线（成轴）对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2128680" cy="255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flipV="1">
            <a:off x="4788000" y="4365720"/>
            <a:ext cx="3168720" cy="1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4724280"/>
            <a:ext cx="1656000" cy="792360"/>
          </a:xfrm>
          <a:prstGeom prst="wedgeEllipseCallout">
            <a:avLst>
              <a:gd name="adj1" fmla="val -33509"/>
              <a:gd name="adj2" fmla="val -94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134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一个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77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互相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17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轴对称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220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5661000"/>
            <a:ext cx="1943280" cy="1008000"/>
          </a:xfrm>
          <a:prstGeom prst="wedgeEllipseCallout">
            <a:avLst>
              <a:gd name="adj1" fmla="val -58087"/>
              <a:gd name="adj2" fmla="val -205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141720"/>
            <a:ext cx="2089080" cy="718920"/>
          </a:xfrm>
          <a:prstGeom prst="wedgeEllipseCallout">
            <a:avLst>
              <a:gd name="adj1" fmla="val -51291"/>
              <a:gd name="adj2" fmla="val 7229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轴对称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2565360"/>
            <a:ext cx="2089440" cy="720720"/>
          </a:xfrm>
          <a:prstGeom prst="wedgeEllipseCallout">
            <a:avLst>
              <a:gd name="adj1" fmla="val -27736"/>
              <a:gd name="adj2" fmla="val 107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轴对称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960640" cy="268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24000" y="2997360"/>
            <a:ext cx="71640" cy="32414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User</cp:lastModifiedBy>
  <dcterms:modified xsi:type="dcterms:W3CDTF">2014-11-05T02:44:11Z</dcterms:modified>
  <cp:revision>1</cp:revision>
  <dc:subject>  </dc:subject>
  <dc:title>  </dc:title>
</cp:coreProperties>
</file>